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2FA-C870-4E26-BE69-C680AC0E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4BF-D430-45D3-8AED-493DDCE0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DD8-EAAE-4045-A46D-5018023D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D451-4168-4196-AAA2-AB4C8C37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DBED-0BB4-4EDA-A6EC-6EFF9947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C40-77E4-45E2-89FB-D331E780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F4AD-EA84-45E5-9ADE-71BA47D7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F1AD-380C-4A3E-8642-6209EA8B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87A-E2F6-49B2-AE7F-F10F2C87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B14-ACAE-4533-A627-FA21A0ED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5B3-606E-4099-A416-E8C3274A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983-432A-4493-92FE-F6A15D91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6C6B-415E-4D72-B481-669044FB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Институт информатики, инноваций и бизнес систем</a:t>
            </a:r>
            <a:br>
              <a:rPr sz="2400"/>
            </a:b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федра информационных систем и компьютер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Предме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Tahoma"/>
              </a:rPr>
              <a:t>«Телекоммуникационные технологии»</a:t>
            </a:r>
            <a:r>
              <a:rPr b="1" lang="ru-RU" sz="2400" spc="-1" strike="noStrike">
                <a:solidFill>
                  <a:srgbClr val="3366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Руководитель: Сачко Максим Анатольевич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2F0-C263-4E96-BFFA-E6D2A0162C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Quer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17) – запрос о наличии в сети членов групп. Запросы обо всех имеющихся группах – общие запросы – отправляются по адресу 224.0.0.1 ("всем узлам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embership Re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2) – уведомление о наличии в сети члена группы (отправляется хостом – членом группы по адресу группы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Leave Grou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ype=23) – уведомление об отсоединении хоста от группы (отправляется отсоединившимся хостом по адресу 224.0.0.2 – "всем маршрутизаторам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Типы IG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8076-B9F4-4AA0-A087-35EF368B19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еерная рассылк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– наиболее простой метод маршрутизации групповых дейтаграмм, при котором дейтаграмма рассылается во все сети системы независимо от наличия в той или иной сети членов группы. При поступлении групповой дейтаграммы маршрутизатор проверяет, впервые ли он получает эту дейтаграмму. Если да, то маршрутизатор рассылает дейтаграмму через все свои интерфейсы, кроме того, с которого она была получена. Иначе дейтаграмма игнориру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еерная рассылка (Floo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26CF-E3AB-4665-8459-1530392560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Остовые деревья (Spanning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7850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14D9-6662-4337-AC76-A678DF6450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RPF (Reverse Path Forwar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98560" y="728640"/>
            <a:ext cx="54025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8B8A-6695-4D59-BEDB-444A335517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BT (Core Based Tre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302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364A-1322-4241-A278-9DAA29B2A1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DVMR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istance Vector Multicast Routing Protocol) – самый старый протокол групповой маршрутизации, он используется в ядре экспериментальной сети MBONE. Протокол работает по технологии RPF с усечением, но для построения деревьев используется собственный дистанционно-векторный протокол, аналогичный протоколу 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4. 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3D54-BF91-455A-B41E-F49DD2A291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MOSP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Multicast OSPF) является расширением протокола OSPF. Маршрутизатор, поддерживающий это расширение, устанавливает бит "М" в поле "Options" сообщения "Hello". В базе данных состояния связей вводится дополнительный тип записи: для указанной сети перечисляются все группы, члены которых есть в этой сети. Эти записи, как и все прочие записи базы данных состояния связей, распространяются по системе сетей с помощью протокола веерной рас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8FF5-CFB6-4550-BB3D-AA60DB8A3E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) – два протокола групповой маршрутизации (для плотного и разреженного расположения членов групп, соответственно dense mode и sparse mode), не зависящие от используемого протокола "обычной" маршрутиз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D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IM Dense Mode) используется в системах сетей с большой плотностью получа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9BE9-D4FC-4878-A4F7-8F9724B91F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IM S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Protocol Independent Multicast, Sparse mode, RFC-2362) применяется для маршрутизации дейтаграмм для малочисленных групп, члены которых находятся далеко друг от друга (в этом случае недостатки метода RPF с усечением становятся существенным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ункционирование протокола можно кратко описать как метод CBT, переходящий в RP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токолы маршрутизации групповых дейт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CBC6-E367-4751-887C-BEAA076111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именение того или иного протокола групповой маршрутизации существенно зависит от того, плотно или разреженно расположены получатели группового трафика. Для плотного расположения годятся протоколы DVMRP, MOSPF и PIM DM; для разреженного подходят PIM SM и CB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б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Мультикаст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ff"/>
                </a:solidFill>
                <a:latin typeface="Tahoma"/>
              </a:rPr>
              <a:t>Вопросы для самопроверки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Укажите основную проблему в задаче передачи мульти­кастингового траф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отличие случаев редкого и плотного расположения получателей мультикастинговых дейтаграмм с точки зрения методов их 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протокол используется для отправки IP-дейтаграмм множеству хостов в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адреса, назначены для использования мультикастинг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ой основной недостаток использования групповой рассылки на транспортном уров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веерная рассы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такое PIM 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А. Телекоммуникационные технологии (Сети TCP/IP). – Владивосток: Изд-во ВГУЭС, 200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Леинванд А., Пински Б. Конфигурирование маршрутизаторов Cisco. 3-е издание. – М.: "Вильямс", 2007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Williamson B. "Developing IP Multicast Networks, Volume I". – Cisco Press,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сновные сведения о мультикастин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ротокол IGM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Маршрутизация групповых дейтаграм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ротоколы маршрутизации групповых дейт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1950-848C-4860-A085-9B6DCD2704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ультикастинг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casting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называется рассылка дейтаграмм группе получателей. Для идентификации групп используются специальные адреса получателя; эти адреса назначаются из класса D в диапазоне 224.0.0.0 – 239.255.255.25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ейтаграмма, направленная на групповой адрес, должна быть доставлена всем участникам группы. В дальнейшем в этой главе такие дейтаграммы мы будем называть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групповы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Основны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1845-584F-49C9-B22E-09F1D08262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 – все узл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2 – все маршрутизаторы в данной се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5 – вс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6 – выделенные OSPF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9 – маршрутизаторы RIP-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0.10 – IGRP-маршрутизатор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224.0.1.1 – получатели информации по протоколу точного времени NT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резервированные групповые адр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A88E-9ADC-4209-B818-CEE51D63D4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организации IP-сети с поддержкой мультикастинга необходимо следующее (RFC-111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мультикастинга в стеке TCP/IP расположенных в сети хост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оддержка групповой или широковещательной рассылки на уровне доступа к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B986-8256-407A-BA96-3878FD1774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G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Group Memebership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назначен для регистрации на маршрутизаторе членов групп, находящихся в непосредственно присоединенных к нему сетях. Имея эту информацию, маршрутизатор может сообщать другим маршрутизаторам (с помощью протоколов групповой маршрутизации) о необходимости пересылки ему дейтаграмм для тех или иных груп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AB85-EE8C-404E-8876-9136AD643B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GMP работает непосредственно поверх протокола IP, и идентифицируется значением 2 в поле "Protocol" заголовка IP-дейта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5440-6C21-48D6-AEFF-3CA903D0B9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2133720"/>
            <a:ext cx="8424720" cy="406692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yp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тип сообщ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ax Response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 бит) – максимальное время отклика, задествовано только в сообщениях типа Membership Qu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hecksum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(16 бит) – контрольная сум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roup 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2 бита) – групповой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ообщение I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920" y="907920"/>
            <a:ext cx="84610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54:27Z</dcterms:modified>
  <cp:revision>167</cp:revision>
  <dc:subject/>
  <dc:title>Lecture Template </dc:title>
</cp:coreProperties>
</file>